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FF40-0D4A-4B7B-981F-102F228F9C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7BFA-4698-4504-B322-0C480C8425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7FA8-2299-41FE-A578-6EC97720AE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4257-3A9B-4241-9DD0-997118C1A1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B460-785D-4649-B826-D3B1AB7D17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2419-A246-49B7-945A-FE5DB906DC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7A36-DF2E-421F-8408-930F97CD85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41EE-BA25-4EDD-80A9-01C948FA00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2D28-BE0D-4FC2-B99A-1071046C91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05F8-CFD1-4DCA-99CD-7E4AB4E61E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2AC5-269B-49A4-B2DA-AF542BF8AA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6399-53F5-4C3B-923B-5FA91C5C88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E1A0-FCBF-418E-8E36-651E7F7033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2F35-4E6C-48DC-BAEF-777CBE89D8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7BD5-5A55-4AFF-BC68-B04EBBC75F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278-83AA-4EF5-9C71-428817FC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20C-B262-4211-B5D5-ADEC997D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EB4-3427-43FB-AE8F-D8ADDB60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4CE-5695-4336-8F74-412FE129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A975-5A3A-429E-B349-6035DFB6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D7F7-B6F6-4999-A775-58765BA3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BE1D-7D0B-4346-BEA5-8085A7C3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C8FB-8B0A-457C-A415-9B64C5A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97E0-5179-4D32-858B-5F9AED18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8CC3-44E5-46DD-9B90-173CFD42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DCF2-8D62-4EC2-A507-DE880D5F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E51-3867-478F-BE70-3D2493C1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14E3-46D5-4798-8725-EF092A23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D337-C87A-4963-959E-23F223F3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2A21-3C2E-4110-A169-7BF0673E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8407-7A1E-4001-9B16-72B1BD06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14BD-811E-4087-983B-D1251AB7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9E61-EAC7-4E6B-8925-EA75C1BF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A329-427D-4003-9C74-26FB5EF0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8E16-F98F-471C-B173-97BD7D23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BB02-DFCE-46CD-B859-2FF3FAE9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A1BB-24CF-41C6-A3DE-D8863219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3FD-9067-403B-BF58-8D601AAF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4EA0-C588-4EA4-B4B7-FBD386D9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EBB3-DF37-4A25-9C02-2FEA9900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7BF01-5D06-4DB5-88C7-66B2625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FE4FD-DA31-4A6E-B27F-B6DFB4B5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D1785-3294-4018-92C1-1034D4BF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EE16-7364-43A4-B0EE-23723FDD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7BA7-B3B1-4F36-A2BB-D3FAB4EA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44620-1FE0-48D3-B301-AE005313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74682-6D1C-435E-9F20-7353E0F4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8F93E-89AF-49B4-9A8B-7E32EF37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CD1-F51C-4713-9A7F-DD0F7140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5AC5-9288-4A6D-9B6F-EE0F5F67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A0714-F059-478D-8F73-DCCB032D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6385-BC0F-468F-B497-99418832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EB72-E8ED-4403-B799-0AB6359F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9E3ED-516F-4FA1-8FFF-7D7A4AF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EDD6-8FEB-46E5-9B15-80482B46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B1494-96F7-4C20-AB62-DFEE4C18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92B3-936A-44A9-8343-C290DC91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A87C6-B3E9-440A-825F-4B115CFC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ED49-A7BC-4EEE-9B2E-1334CCB5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7A3-D292-4BC1-B311-BBBBE1D2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B4CFF-2942-44B6-9B99-32E87E7D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641CB-C1A2-4215-9E0F-699E4D3C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C83EF-DEA1-4C8D-ADF0-17334AAE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A3602-D0B7-4A82-AC54-B82B4452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999E-6D2A-4743-ACE5-410FA2B2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BE932-4F53-449F-A01C-79D46ACB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D77B4-9873-4F08-9979-9450C3E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480A0-004E-4E1F-9406-D455E203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F20C7-0ABF-41ED-91C9-0FE0C09D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EBC27-0F9B-4017-97D3-5755A77F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ADC-07FA-473B-B491-AEE909A8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E8B2-02F5-4C81-A8E3-0A691ED0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F9FB8-E481-4DCE-A18B-EE9E7B6F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750C9-336F-4A7F-85D0-79F9299C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80DEE-E285-429C-ADB7-7B61E432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2ADD4-79C3-4618-9189-F9D45BF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C02D7-31F4-4B4A-AA29-B667931F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F776B-548F-4A31-ABFD-C8388903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F0745-9491-4261-AD71-75A61F6E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A93EE-83D3-47F6-832E-A8638E04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96758-A2CE-4900-BB21-5EEF2855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D09-CC9A-4FEA-856A-BFF006F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6FD9D-0D53-43A8-8C2C-183BD13F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3FA96-5E29-4D29-B924-3162BBE2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E6D43-C612-4A5E-ADA6-19962310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7B913-5FF9-4058-B5D8-7DEA335C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B555E-D2EF-4032-8D8B-92B6FC31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889F2-4784-41F7-830D-65D64B4D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59A3D-2A66-41C1-ABC2-4F8F6D1F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B097A-73DF-45A6-B5B9-5CDF896C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562B8-6B2F-4F6A-A3C6-296F9EE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D7433-6A78-455F-ADDA-217EB944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701-E7A2-4A52-922B-04F05506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AAA3A-A352-45AF-8C44-8396BB1B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3B6B7-3D59-4A71-9BCB-6FA0DD26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FE00F-DE3C-4F15-A0E6-908A18D4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46847-E7C7-4A91-AFEC-CE12117B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66D8C-8192-48C2-96A2-CD315CCD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F44-5A60-4D0A-AB42-64703135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BE68-0BD5-485F-9710-BC719DAA20A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6025-7CA8-493C-AB84-006E92157B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3FA5-DE94-4AAC-B6FD-E2C06FCC0CA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4575-75CF-4ABF-B4DD-403B9A17845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D793-5ECF-4390-959E-732316B42C1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3E7E-9AFF-459E-974A-35A7CF94A0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E483-1A78-4578-856B-493DAD6F632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A52A-9E48-48AE-9D3E-B1DD10442E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2B4B-D56A-4BD2-90C6-3A3FAA80CB8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4EAE-EF60-46AF-8B9D-8A4803BCBA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69AD-5287-4540-8D5F-A4C529E18EA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E9E4-370A-481B-85C7-06BA7B1799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3B97-2D82-4870-A697-9744BB56D5C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135C-1DC2-49C1-9FA4-7E29A3D3362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57200" y="500040"/>
            <a:ext cx="821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096920" indent="-1731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428760"/>
            <a:ext cx="7494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214280"/>
            <a:ext cx="7499520" cy="50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428760"/>
            <a:ext cx="7499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999720"/>
            <a:ext cx="74995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5300"/>
            </a:br>
            <a:endParaRPr b="0" lang="en-US" sz="5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5928840"/>
            <a:ext cx="7499520" cy="3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5000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8:11:17Z</dcterms:created>
  <dc:creator>Admin</dc:creator>
  <dc:description/>
  <dc:language>en-US</dc:language>
  <cp:lastModifiedBy>LEGION</cp:lastModifiedBy>
  <dcterms:modified xsi:type="dcterms:W3CDTF">2015-01-27T12:01:53Z</dcterms:modified>
  <cp:revision>13</cp:revision>
  <dc:subject/>
  <dc:title>Развитие орфографической зоркости у младших школьников</dc:title>
</cp:coreProperties>
</file>